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8EA-2F99-45B0-83B0-A7F6117B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EEF-52A2-479F-BD04-187C7918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A9B-B1A8-4D75-95CC-AD3CC868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903-9665-46FC-85EE-6A8CD3EC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BAA5E-80F7-41E9-B724-3B45EA53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9A5EF-5AD7-4822-B8CD-8999D413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21881-00BF-4469-AC6D-DB581D90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8851E-0E6B-4539-BFFE-77AA160E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CD6EE-A165-4DFB-96F0-030E6EC0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E7CEC-AAEB-4E8F-8A62-AB1670FD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8EB3D-6B90-4047-80EB-EFCD6D2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123-3F56-4ED9-8EBC-3A651B7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28982-6219-49F1-A264-39B2259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3EDAB-7353-496B-8F83-DE3DB46C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151E4-591C-4E64-B336-8606E3B3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0AEC5-D8E7-4141-A0AB-07F703EE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A5350-5D1A-4562-8865-FDDE1C5A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5D4-23E4-4601-872B-3FF6E173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178-678D-4AE1-9658-8D73294D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57C-976B-4091-90DF-ECDA820F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B14-B76A-45FA-BDD5-FA8DFB02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6D6-A146-437C-8A8D-0F50BB9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54D-B57D-4D81-9732-4524017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E85-04CE-4A22-B832-5BDBB6C6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8D82-296C-4434-9C1F-C57804D7CD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82C3-C75C-4397-97D7-ED9A2A8A87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Урок – обобщение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по теме «Силы в механике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 учитель физ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В. Ткачё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щиеся должны обобщить знания по силам в механике. Повторить основные формулы сил. Оценить свои умения применять знания на примерах. Учащиеся должны усвоить силы на уровне примене­ния знаний в новой ситуации; научиться применять знания о силах к объяснению и анализу явлений окружающего мира; систематизировать имеющиеся знания силах и расширить и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разовательны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явить уровень усвоения понятий, определений, законов, формул и умения применять их как в знакомых ситуациях, так и в не описанных в учебнике. Проконтролировать уровень усвоения основных положений  динам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комить учащихся с приемами систематизации и обобщения знаний при работе с научно-популярной литературой, показать возможности ее использования для совершенствования знаний. Научить работать самостоятельно с текстом учебника  создавать презентации по темам, расширить кругоз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питательны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йствовать формированию мировоззренческой идеи познаваемости явлений и свойств окружающего мира, развить коммуникативные способности в ходе работы в групп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звития мышл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рить уровень самостоятельности мышления учащихся по применению знаний в различных ситуациях. Формировать элементы творческого поиска на основе приемов обобщ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ние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29" name="Organization Chart 7"/>
          <p:cNvGrpSpPr/>
          <p:nvPr/>
        </p:nvGrpSpPr>
        <p:grpSpPr>
          <a:xfrm>
            <a:off x="395280" y="1557360"/>
            <a:ext cx="8208360" cy="4462920"/>
            <a:chOff x="395280" y="1557360"/>
            <a:chExt cx="8208360" cy="4462920"/>
          </a:xfrm>
        </p:grpSpPr>
        <p:cxnSp>
          <p:nvCxnSpPr>
            <p:cNvPr id="130" name="_s1028"/>
            <p:cNvCxnSpPr>
              <a:stCxn id="131" idx="0"/>
              <a:endCxn id="132" idx="2"/>
            </p:cNvCxnSpPr>
            <p:nvPr/>
          </p:nvCxnSpPr>
          <p:spPr>
            <a:xfrm flipV="1">
              <a:off x="1626480" y="4346280"/>
              <a:ext cx="36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29"/>
            <p:cNvCxnSpPr>
              <a:stCxn id="134" idx="0"/>
              <a:endCxn id="135" idx="2"/>
            </p:cNvCxnSpPr>
            <p:nvPr/>
          </p:nvCxnSpPr>
          <p:spPr>
            <a:xfrm flipV="1">
              <a:off x="7372440" y="4346280"/>
              <a:ext cx="36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30"/>
            <p:cNvCxnSpPr>
              <a:stCxn id="135" idx="0"/>
              <a:endCxn id="137" idx="2"/>
            </p:cNvCxnSpPr>
            <p:nvPr/>
          </p:nvCxnSpPr>
          <p:spPr>
            <a:xfrm flipV="1" rot="16200000">
              <a:off x="5656680" y="15145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31"/>
            <p:cNvCxnSpPr>
              <a:stCxn id="139" idx="0"/>
              <a:endCxn id="137" idx="2"/>
            </p:cNvCxnSpPr>
            <p:nvPr/>
          </p:nvCxnSpPr>
          <p:spPr>
            <a:xfrm flipV="1">
              <a:off x="4499640" y="2672280"/>
              <a:ext cx="36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32"/>
            <p:cNvCxnSpPr>
              <a:stCxn id="132" idx="0"/>
              <a:endCxn id="137" idx="2"/>
            </p:cNvCxnSpPr>
            <p:nvPr/>
          </p:nvCxnSpPr>
          <p:spPr>
            <a:xfrm flipH="1" flipV="1" rot="5400000">
              <a:off x="2783880" y="151488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33"/>
            <p:cNvSpPr/>
            <p:nvPr/>
          </p:nvSpPr>
          <p:spPr>
            <a:xfrm>
              <a:off x="3268080" y="155736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сил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034"/>
            <p:cNvSpPr/>
            <p:nvPr/>
          </p:nvSpPr>
          <p:spPr>
            <a:xfrm>
              <a:off x="395280" y="32310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ила тяжес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F=mg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3268080" y="32310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ила упругос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F=-kx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036"/>
            <p:cNvSpPr/>
            <p:nvPr/>
          </p:nvSpPr>
          <p:spPr>
            <a:xfrm>
              <a:off x="6141240" y="32310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ила тр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F=m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037"/>
            <p:cNvSpPr/>
            <p:nvPr/>
          </p:nvSpPr>
          <p:spPr>
            <a:xfrm>
              <a:off x="6141240" y="49046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Электромагнитно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заимодейств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1" name="AutoShape 21"/>
            <p:cNvCxnSpPr>
              <a:stCxn id="139" idx="2"/>
              <a:endCxn id="134" idx="0"/>
            </p:cNvCxnSpPr>
            <p:nvPr/>
          </p:nvCxnSpPr>
          <p:spPr>
            <a:xfrm>
              <a:off x="4499640" y="4346640"/>
              <a:ext cx="2873520" cy="5583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1" name="_s1039"/>
            <p:cNvSpPr/>
            <p:nvPr/>
          </p:nvSpPr>
          <p:spPr>
            <a:xfrm>
              <a:off x="395280" y="49046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Гравитационно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взаимодейств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зентации учащихс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а тяж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а упруг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а т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есом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роверка знаний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. диск «1 С: Образование. Физика 10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а 3. Законы динамики. Обучающее задания к параграфам 3.1-3.3,3.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Занимательный элемент 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. диск «1 С: Образование. Физика 10-11. подготовка к ЕГЭ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 3. Силы в механике. Справочный блок. Игра «Полёт в космос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. Выставление оце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урок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9:18:34Z</dcterms:created>
  <dc:creator>Customer</dc:creator>
  <dc:description/>
  <dc:language>en-US</dc:language>
  <cp:lastModifiedBy>Учитель</cp:lastModifiedBy>
  <dcterms:modified xsi:type="dcterms:W3CDTF">2012-04-10T08:47:20Z</dcterms:modified>
  <cp:revision>6</cp:revision>
  <dc:subject/>
  <dc:title>Урок – обобщение по теме «Силы в механике»</dc:title>
</cp:coreProperties>
</file>